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6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24.png" ContentType="image/png"/>
  <Override PartName="/ppt/media/image8.png" ContentType="image/png"/>
  <Override PartName="/ppt/media/image23.jpeg" ContentType="image/jpeg"/>
  <Override PartName="/ppt/media/image50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27.jpeg" ContentType="image/jpeg"/>
  <Override PartName="/ppt/media/image10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2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6.jpeg" ContentType="image/jpeg"/>
  <Override PartName="/ppt/media/image54.jpeg" ContentType="image/jpeg"/>
  <Override PartName="/ppt/media/image34.png" ContentType="image/png"/>
  <Override PartName="/ppt/media/image12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1.png" ContentType="image/png"/>
  <Override PartName="/ppt/media/image39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png" ContentType="image/png"/>
  <Override PartName="/ppt/media/image40.jpeg" ContentType="image/jpeg"/>
  <Override PartName="/ppt/media/image41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šinski materijal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C752750-832B-4774-953A-14493F113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900844-488B-4C6F-848A-2ACB4C2A37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FB7215-CADE-4938-B596-41083286F97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A34D7C5-AD2D-467B-BC96-2FB48295580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DC5C604-D4BA-4197-9D0E-72758EB5351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CC39C06-F749-43BA-A9C2-2389BF832E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B2A322D-C836-4524-B5D2-A5CD29FE061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613F7A8-54CB-48C3-86FB-2EFE388112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C47AF-0CF6-4098-9B43-A383A31E13D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7CD75E-F458-4796-90A9-C70FD7B1D93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E122AF-E57A-4BF3-B745-57F2793DF4A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D63B55-55D3-4148-94AC-0F2D2CF4EE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F22B9A7-54ED-4D8A-A814-5F402865912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705AB5-599B-4B55-AB84-6598E397218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9AC11D1-DF69-42BA-A761-EE66865B02E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C06FBB3-0511-4BFF-B622-F975A724CC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6095DC-4F30-49C4-8AF6-B4C1A89D76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9D6C43-B7DA-4AC7-B1CC-7EFC667F309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318E4C2-65AD-494C-8C65-E9950452DE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1589A5-E11C-40FA-9C8F-6579497456C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AEE4744-2088-46FB-AD94-F9C43C9CC9D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51AF9FA-279B-4BD5-9EAA-7EF9E31F68C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1ACEFF-E3E2-4912-A500-4D774125A06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C6EC12-93CB-46B2-96B3-A0695E0D65E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751CC13-CDFE-4E77-A64D-6870DE9B2D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62ABC9A-49E8-4C07-9DF6-29EF356689B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122F68C-14C5-4C49-871B-9FF46E7F329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F5C9A3-23C5-4205-A779-23B4AB8CAA5B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D5CC7DB-BD8C-413A-AB09-3061094AB15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C968BF-77B5-4332-9FD6-1A981921A4E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D750A6-6209-469C-B2FA-C08E2F9CA84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BE226A-F868-4214-979C-C5D09A61BF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9B04DE-4B88-4F5C-89DB-70AA524E40B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0B4153F-844B-4328-83EE-135B060C6BC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A55B30C-999F-447B-BBC9-E0881EE03A7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8C902DF-A62A-4A2E-AA71-E41DDA98176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93E36D5-11B3-4B39-8A98-6F2C3067B36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1ED61E2-2ED9-4CE8-9869-1BECE91D901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6CF5F43-BD08-4739-8F6E-6D8234193A6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E1CD6B6-B993-4D77-AF00-E9ACA7901D8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953A23-8941-4F75-B16D-B40CD85E952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1299FCD-68AD-411B-99EE-9A93D6AE617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756AD5-CB76-41AD-9CD4-AFCE7F80631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309C4B-3F2C-4642-BB92-2A70073EE3B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DD7BC7-BB60-40CF-B401-808B3FB8A59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BB86A60-7FDA-44AC-AAE9-B0C3D69640C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2F8A92-79FC-4AF9-96F3-1A45082A8D6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3438CB2-A7DF-41B2-9A18-272E9B22CAF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52F52F4-CF1F-4AE5-A2E4-3D08A8705AD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3394E36-E96B-4967-95CA-5EABF4ED8C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F0B775-F3FB-4D06-B255-99BA4538C56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4EE6C8-EDD4-4DCA-9AD1-81C1695C054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9EAF3A-C663-4774-98FA-7C5D1B16BA8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17596A-6033-4332-95C1-DE273BF8314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B167A7D-ED8F-4B92-B1D3-AD134131783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6F095C-127A-4E03-9BB1-F553321BD6B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E301281-18AA-4782-83A2-D09B6F38367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Medicinski fakultet u Kragujevcu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r Predrag Čanović, vanredni profesor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2BF690B-38B7-4293-908E-F89532EBCD4E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D45-9CCE-4018-BCC8-F01A252C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C3B-53C2-4D0C-A97A-1797E1EB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342-B349-45F2-86E0-DDFBAFE5A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BA4-F472-47DC-9EDD-2C89FD25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9701-D74E-4783-B69A-399DC666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4C00-81D2-4BFB-B791-59ABED46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4B80-8D03-4874-9AE0-E5A2753A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6A6A-6046-4453-B57D-AC01025F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148E-92B3-4762-8EEE-C1B7117C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66FC-A025-4D1D-A3FA-698188B1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A431-497C-4E1B-BE88-9D57CC1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C45-35D4-43EF-A57C-903E9714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217C-66B0-4514-80DF-2092B343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E10-D671-4328-9655-1039050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2EA6-96A6-410F-A47F-9071CA6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2944-0388-4DD0-B1C9-E55E2E7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44C2-8B00-4EC3-AC86-0D46C07F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E2F6E-4F8D-409D-BDB9-CECBAEED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F819-EEBE-430B-8595-387794F0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BD7F-F6FC-4E23-AB81-637FF8E9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B34A-410C-4F07-BAEA-35C770B5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1D2A6-2420-46FB-B793-B65C942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5D7-005B-41A7-9FCF-2BD5E636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0C1DE-8B13-4461-8C21-1D5CDC07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EEC5A-D43A-4063-9E14-B7F84CE8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FA3E-C639-4AD5-83F0-5B207739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EBD6-26CB-4388-A6DF-FA994ED3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D927-BA3F-4311-8087-14C2DCCE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CD04-2B75-4954-B37C-4E114705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F3D7-2ACA-47F9-8726-904B2097A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2554-800D-45ED-BCBB-BC5C5EFF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7F4D-42DE-48D8-BABF-0B3035EF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00B3B-5196-41A8-B083-1DBD8781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EB4-D008-4BF5-AC4E-D969C1E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508B-09B2-4EA4-8126-28D4CD9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F6A25-A98A-4662-B473-3F67A2C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90F1-A580-4E86-8F0F-C15F53A0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F9DC-936E-4F1B-8A1B-F78A4718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6DFB-C30D-476B-A28E-83D0FB1A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77A2D-80FD-4294-868C-165627D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183CB-363B-4A27-AF10-67C86C37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51D1B-7C8F-439A-9164-3D9BC85F5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277A-67FC-4C89-8852-8590AD60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FADB-917F-4D56-B85A-28C973ED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DC3-65AE-48A3-83A3-985AAA66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1C3A1-6FC5-4FB3-812A-254D88A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F82C-2025-474C-83A5-EE171748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0E16-6C6A-4C81-A7A7-045DB0D6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97866-B132-4CEF-92FD-01A5FCAE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6AC4-E8EA-410D-8671-686EC586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39BB4-1CAE-4A56-98B4-1179118C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317EE-79A3-47BA-B320-C7715D2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6563-2B7C-4D81-ADB8-A788599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399C4-909B-4AB0-99CB-7E86F20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22903-73C0-47C9-826E-E2C454AD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7A9-A481-4379-BD8F-8423903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C59F1-03EF-44AC-9B11-0EE9BE37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84E01-A9A3-496C-A024-FEC8C096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72B8-81AA-4DB9-AC78-86201E9B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58BF5-D341-4939-870F-6720F5A8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15F19-B1F0-4FBB-910B-25BCE542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73C04-BD4C-4EDF-BE4D-CB33E392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8617A-8976-461B-A081-D9F2CC58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F3905-09ED-4B11-9B5A-7B2576C1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77243-93BC-4CDC-8EBF-C7695BDB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4EA5E-8F91-4150-850E-828B3798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16C-02BA-4E53-A392-7A8987E5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90E33-C866-4C63-8CBF-CC8BBC4E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A63F-16F9-4394-9A7D-769F0D0E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1ED7-355E-413D-B9BE-C1B726E2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2BBE-339D-4D83-926D-2580DD0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A4C-81F1-4AF2-8BF7-CE800820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728A-558D-4296-B430-7CDBC3806D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D439-0E79-4C60-B075-0A25D6862A29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7712-0C3D-429C-B2B8-11C277619D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CEE6-40D7-42E4-8DB1-6D78DE18E7C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168D-E5D7-46B5-BBFC-C4436706FA1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1725-F6C9-4DAF-8C84-3A16167C6BC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490-B975-42E4-8133-CB9A5939BAA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lm.nih.gov/medlineplus/ency/images/ency/fullsize/2381.jpg&amp;imgrefurl=http://www.nlm.nih.gov/medlineplus/ency/imagepages/2381.htm&amp;h=226&amp;w=306&amp;sz=13&amp;tbnid=oBGnwtc1cg2h6M:&amp;tbnh=82&amp;tbnw=112&amp;hl=en&amp;start=2&amp;prev=/images%3Fq%3Dcryptococcosis%26svnum%3D10%26hl%3Den%26lr%3Dlang_hr%7Clang_en%7Clang_fr%7Clang_de%7Clang_it%7Clang_sr%7Clang_sl%26rls%3DGGLD,GGLD:2004-50,GGLD:en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556240" y="182592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ea0b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643280" y="5373360"/>
            <a:ext cx="3967200" cy="93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00"/>
                </a:solidFill>
                <a:latin typeface="Comic Sans MS"/>
              </a:rPr>
              <a:t>П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роф. </a:t>
            </a:r>
            <a:r>
              <a:rPr b="0" lang="sr-CS" sz="1800" spc="-1" strike="noStrike">
                <a:solidFill>
                  <a:srgbClr val="ffff00"/>
                </a:solidFill>
                <a:latin typeface="Comic Sans MS"/>
              </a:rPr>
              <a:t>д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р Биљана Поповска Јовичи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414-3B32-493C-A034-655D6222332B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5521320" y="260280"/>
            <a:ext cx="3227400" cy="41767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9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11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12" descr=""/>
          <p:cNvPicPr/>
          <p:nvPr/>
        </p:nvPicPr>
        <p:blipFill>
          <a:blip r:embed="rId2"/>
          <a:stretch/>
        </p:blipFill>
        <p:spPr>
          <a:xfrm>
            <a:off x="1042920" y="35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0" y="549360"/>
            <a:ext cx="5651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Инфекција вирусом хумане имунодефицијенције (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V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Синдром стечене имунодефицијенције (AID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4F1-208F-40EF-9826-9119E9C72368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Rectangle 20"/>
          <p:cNvSpPr/>
          <p:nvPr/>
        </p:nvSpPr>
        <p:spPr>
          <a:xfrm>
            <a:off x="977040" y="224280"/>
            <a:ext cx="5056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Деловање 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HIV</a:t>
            </a: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-а на 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Th (CD</a:t>
            </a:r>
            <a:r>
              <a:rPr b="0" lang="sr-Latn-CS" sz="2000" spc="-1" strike="noStrike" baseline="-25000">
                <a:solidFill>
                  <a:srgbClr val="ffff00"/>
                </a:solidFill>
                <a:latin typeface="Comic Sans MS"/>
              </a:rPr>
              <a:t>4</a:t>
            </a: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) лимфоци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Text Box 23"/>
          <p:cNvSpPr/>
          <p:nvPr/>
        </p:nvSpPr>
        <p:spPr>
          <a:xfrm>
            <a:off x="179280" y="1844640"/>
            <a:ext cx="44640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Фазе у деловању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-а на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Th</a:t>
            </a: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 лимфоц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Везивање 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-а (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gp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 120) за 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sr-Latn-CS" sz="16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 рецептор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Пенетрација вирусног генома (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RNA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) у </a:t>
            </a:r>
            <a:br>
              <a:rPr sz="1600"/>
            </a:b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осетљиву ћелиј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Интеграција вирусног генома у геном ћелије домаћин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Након фазе латенције почиње репликација 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-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Ослобађање 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-а из ћелије (пупљењем)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Смрт осетљиве ћелије (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Th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7" name="Content Placeholder 17" descr="1508064863-HIV-Replication-Cycle-Stages-life-cycle.jpg"/>
          <p:cNvPicPr/>
          <p:nvPr/>
        </p:nvPicPr>
        <p:blipFill>
          <a:blip r:embed="rId1"/>
          <a:stretch/>
        </p:blipFill>
        <p:spPr>
          <a:xfrm>
            <a:off x="4710240" y="2565360"/>
            <a:ext cx="42638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62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Везивање HIV вируса за циљну ћелију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49E8-F4E0-45FD-87FB-B23610EB211D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4427640" y="5229360"/>
            <a:ext cx="432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Инсерција gp 41 у мембрану Т лимфоцита и фузија вирусне и мембране ћелије домаћ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1" name="Content Placeholder 8" descr="3step-1attachment.png"/>
          <p:cNvPicPr/>
          <p:nvPr/>
        </p:nvPicPr>
        <p:blipFill>
          <a:blip r:embed="rId1"/>
          <a:stretch/>
        </p:blipFill>
        <p:spPr>
          <a:xfrm>
            <a:off x="250920" y="596880"/>
            <a:ext cx="3673440" cy="2044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D:\hiv predavanje studenti\3step-2coreception.png"/>
          <p:cNvPicPr/>
          <p:nvPr/>
        </p:nvPicPr>
        <p:blipFill>
          <a:blip r:embed="rId2"/>
          <a:stretch/>
        </p:blipFill>
        <p:spPr>
          <a:xfrm>
            <a:off x="250920" y="2781360"/>
            <a:ext cx="3673440" cy="1942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D:\hiv predavanje studenti\3step-3fusion.png"/>
          <p:cNvPicPr/>
          <p:nvPr/>
        </p:nvPicPr>
        <p:blipFill>
          <a:blip r:embed="rId3"/>
          <a:stretch/>
        </p:blipFill>
        <p:spPr>
          <a:xfrm>
            <a:off x="324000" y="4869000"/>
            <a:ext cx="3600360" cy="1836720"/>
          </a:xfrm>
          <a:prstGeom prst="rect">
            <a:avLst/>
          </a:prstGeom>
          <a:ln w="0">
            <a:noFill/>
          </a:ln>
        </p:spPr>
      </p:pic>
      <p:sp>
        <p:nvSpPr>
          <p:cNvPr id="354" name="Footer Placeholder 3"/>
          <p:cNvSpPr/>
          <p:nvPr/>
        </p:nvSpPr>
        <p:spPr>
          <a:xfrm>
            <a:off x="4500720" y="3429000"/>
            <a:ext cx="4111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Везивање gp 120 HIV вируса за хемокинске рецепторе ћелије домаћ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4356000" y="1197000"/>
            <a:ext cx="460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Везивање gp 120 HIV вируса за CD4 рецептор Т лимфоци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6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Slide Number Placeholder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EF75-0655-414E-AFBD-E9EB2265997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8" name="Content Placeholder 8" descr="img13.jpg"/>
          <p:cNvPicPr/>
          <p:nvPr/>
        </p:nvPicPr>
        <p:blipFill>
          <a:blip r:embed="rId1"/>
          <a:stretch/>
        </p:blipFill>
        <p:spPr>
          <a:xfrm>
            <a:off x="0" y="0"/>
            <a:ext cx="9394920" cy="7047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Животни циклус HIV вируса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000" y="6165360"/>
            <a:ext cx="237492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Хумана DN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5435640" y="6237360"/>
            <a:ext cx="10810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Footer Placeholder 6"/>
          <p:cNvSpPr/>
          <p:nvPr/>
        </p:nvSpPr>
        <p:spPr>
          <a:xfrm>
            <a:off x="5867280" y="3068640"/>
            <a:ext cx="194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Склапа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Footer Placeholder 6"/>
          <p:cNvSpPr/>
          <p:nvPr/>
        </p:nvSpPr>
        <p:spPr>
          <a:xfrm>
            <a:off x="5508720" y="1052640"/>
            <a:ext cx="13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ФУЗ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Footer Placeholder 6"/>
          <p:cNvSpPr/>
          <p:nvPr/>
        </p:nvSpPr>
        <p:spPr>
          <a:xfrm>
            <a:off x="4643280" y="256536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Скидање</a:t>
            </a:r>
            <a:r>
              <a:rPr b="1" lang="sr-RS" sz="1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омота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7667640" y="198900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Пупљењ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Footer Placeholder 6"/>
          <p:cNvSpPr/>
          <p:nvPr/>
        </p:nvSpPr>
        <p:spPr>
          <a:xfrm>
            <a:off x="900000" y="2565360"/>
            <a:ext cx="21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Реверзна транскрипт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Footer Placeholder 6"/>
          <p:cNvSpPr/>
          <p:nvPr/>
        </p:nvSpPr>
        <p:spPr>
          <a:xfrm>
            <a:off x="6300720" y="3860640"/>
            <a:ext cx="17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b0f0"/>
                </a:solidFill>
                <a:latin typeface="Arial"/>
              </a:rPr>
              <a:t>В</a:t>
            </a: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ирусни протеин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Footer Placeholder 6"/>
          <p:cNvSpPr/>
          <p:nvPr/>
        </p:nvSpPr>
        <p:spPr>
          <a:xfrm>
            <a:off x="6443640" y="4581360"/>
            <a:ext cx="115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f0"/>
                </a:solidFill>
                <a:latin typeface="Tahoma"/>
              </a:rPr>
              <a:t>Протеиниски лана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7667640" y="4797360"/>
            <a:ext cx="136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Вирусна </a:t>
            </a:r>
            <a:r>
              <a:rPr b="1" lang="sr-Latn-RS" sz="1200" spc="-1" strike="noStrike">
                <a:solidFill>
                  <a:srgbClr val="00b0f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Footer Placeholder 6"/>
          <p:cNvSpPr/>
          <p:nvPr/>
        </p:nvSpPr>
        <p:spPr>
          <a:xfrm>
            <a:off x="5508720" y="5229360"/>
            <a:ext cx="201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рансла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Footer Placeholder 6"/>
          <p:cNvSpPr/>
          <p:nvPr/>
        </p:nvSpPr>
        <p:spPr>
          <a:xfrm>
            <a:off x="3635280" y="5373720"/>
            <a:ext cx="20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Транскрипц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Footer Placeholder 6"/>
          <p:cNvSpPr/>
          <p:nvPr/>
        </p:nvSpPr>
        <p:spPr>
          <a:xfrm>
            <a:off x="5219640" y="623736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200" spc="-1" strike="noStrike">
                <a:solidFill>
                  <a:srgbClr val="00b0f0"/>
                </a:solidFill>
                <a:latin typeface="Arial"/>
              </a:rPr>
              <a:t>R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2860560" y="6381720"/>
            <a:ext cx="178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Footer Placeholder 6"/>
          <p:cNvSpPr/>
          <p:nvPr/>
        </p:nvSpPr>
        <p:spPr>
          <a:xfrm>
            <a:off x="2987640" y="602136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Вирусна </a:t>
            </a:r>
            <a:r>
              <a:rPr b="1" lang="en-US" sz="1200" spc="-1" strike="noStrike">
                <a:solidFill>
                  <a:srgbClr val="00b0f0"/>
                </a:solidFill>
                <a:latin typeface="Arial"/>
              </a:rPr>
              <a:t>D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Footer Placeholder 6"/>
          <p:cNvSpPr/>
          <p:nvPr/>
        </p:nvSpPr>
        <p:spPr>
          <a:xfrm flipH="1">
            <a:off x="324000" y="4957920"/>
            <a:ext cx="25365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Једр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1908000" y="4957920"/>
            <a:ext cx="1872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Процес интегр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1619280" y="4221000"/>
            <a:ext cx="1944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Комплекс пре интеграциј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Footer Placeholder 6"/>
          <p:cNvSpPr/>
          <p:nvPr/>
        </p:nvSpPr>
        <p:spPr>
          <a:xfrm>
            <a:off x="1763640" y="3429000"/>
            <a:ext cx="187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sr-RS" sz="1800" spc="-1" strike="noStrike">
                <a:solidFill>
                  <a:srgbClr val="ffff00"/>
                </a:solidFill>
                <a:latin typeface="Arial"/>
              </a:rPr>
              <a:t>- обра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2268360" y="2997360"/>
            <a:ext cx="18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b0f0"/>
                </a:solidFill>
                <a:latin typeface="Arial"/>
              </a:rPr>
              <a:t>Вирусна </a:t>
            </a:r>
            <a:r>
              <a:rPr b="1" lang="sr-Latn-RS" sz="1200" spc="-1" strike="noStrike">
                <a:solidFill>
                  <a:srgbClr val="00b0f0"/>
                </a:solidFill>
                <a:latin typeface="Arial"/>
              </a:rPr>
              <a:t>D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5AA7-7C80-4F76-A5A3-0DFC5E1B0679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1279800" y="836640"/>
            <a:ext cx="51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Ефекти деловања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HIV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-а на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Th 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лимфоци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1116000" y="2205000"/>
            <a:ext cx="7632720" cy="19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ад апсолутног број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h (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 лимфоцита у крви (квантитативни дефект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лимфоци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ремећај функци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h (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 лимфоцита (квалитативни дефект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h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лимфоци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1042920" y="4365720"/>
            <a:ext cx="7777080" cy="141048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У основи HIV инфекције лежи имунодефицијенција  настала  услед  квантитативног и квалитативног дефекта Th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л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имфоцита (ћелијски тип имунодефицијенције)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5F76-CFE3-42C5-83A4-EAD9A5169181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755640" y="676800"/>
            <a:ext cx="87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Деловање H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V-а на макрофаге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, моноците и дендритичке ћелиј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826920" y="1628640"/>
            <a:ext cx="756144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ентритичке ћелије прве у низу шире инфекцију на наивне Т лимфоцит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акрофаги и моноцити такође могу бити инфицирани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ом, али показују отпорност на цитолизу (мање су осетљиви према HIV инфекцији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бог тога макрофаги и моноцити постају главни резервоар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а у орг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м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70000"/>
              </a:lnSpc>
              <a:spcBef>
                <a:spcPts val="9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фицираним макрофагима и моноцитима, преко HEB, HIV инфекција се преноси у CN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Prirodan tok HIV infekcij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90" name="Picture 2" descr="D:\AIDS\PRIMARY HIV\natural_history_of_hiv_disease1323994161528.jpg"/>
          <p:cNvPicPr/>
          <p:nvPr/>
        </p:nvPicPr>
        <p:blipFill>
          <a:blip r:embed="rId1"/>
          <a:stretch/>
        </p:blipFill>
        <p:spPr>
          <a:xfrm>
            <a:off x="228600" y="4191120"/>
            <a:ext cx="8610480" cy="2460600"/>
          </a:xfrm>
          <a:prstGeom prst="rect">
            <a:avLst/>
          </a:prstGeom>
          <a:ln w="0">
            <a:noFill/>
          </a:ln>
        </p:spPr>
      </p:pic>
      <p:pic>
        <p:nvPicPr>
          <p:cNvPr id="391" name="Content Placeholder 9" descr=""/>
          <p:cNvPicPr/>
          <p:nvPr/>
        </p:nvPicPr>
        <p:blipFill>
          <a:blip r:embed="rId2"/>
          <a:stretch/>
        </p:blipFill>
        <p:spPr>
          <a:xfrm>
            <a:off x="109440" y="2230560"/>
            <a:ext cx="8852040" cy="179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2E3-5466-489E-ACA0-AE8E05CC2FF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1162440" y="461160"/>
            <a:ext cx="38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Природни ток 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HIV </a:t>
            </a: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95" name="Object 6"/>
          <p:cNvGraphicFramePr/>
          <p:nvPr/>
        </p:nvGraphicFramePr>
        <p:xfrm>
          <a:off x="1042920" y="1052640"/>
          <a:ext cx="74898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052640"/>
                    <a:ext cx="74898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A693-DF28-44D1-B8AD-B3A704376144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1103400" y="173880"/>
            <a:ext cx="364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Опортунистичке 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04292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икроорганзми за чију је контролу и елиминацију неопходан очуван имунски одговор (ћелијски  имунски одговор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042920" y="148428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ПАРАЗИТИ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oxoplasma gondii Cryptosporidium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ospora belli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5435640" y="148428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БАКТЕРИЈЕ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ikrobakterije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Salmone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1116000" y="342900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ВИРУСИ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erpes simplex vir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aricella-zoster virus, Cytomegaloviru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JC papova virus,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umani papiloma viru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arvovirus B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5435640" y="35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ГЉИВИЦЕ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andida species, Pneumocysti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iroveci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 Cryptococcus neoformans, Histoplasma capsulatu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900000" y="5877000"/>
            <a:ext cx="7775640" cy="6426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За настанак опортунистичких инфекција код инфицираних HIV-ом одговоран је ћелијски тип имунодефицијенциј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1DE1-DADB-4396-A604-FD8F9C5DB131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1224720" y="6066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Опортунистички тумо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258920" y="2205000"/>
            <a:ext cx="5257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поши сарк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он-Хочкинов лимф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Цервикална интраепителна неоплаз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Цервикални карцин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71640" y="4724280"/>
            <a:ext cx="7775640" cy="64260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За настанак оп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o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ртунистичких тумора код инфицираних HIV-ом одговоран је ћелијски тип имунодефицијенциј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1865-A5D7-434C-B891-30EA061A2BC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704880" y="503640"/>
            <a:ext cx="6822000" cy="459720"/>
          </a:xfrm>
          <a:prstGeom prst="rect">
            <a:avLst/>
          </a:prstGeom>
          <a:noFill/>
          <a:ln w="9360">
            <a:solidFill>
              <a:srgbClr val="6ea0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Клиничке манифестације </a:t>
            </a:r>
            <a:r>
              <a:rPr b="1" lang="sr-Latn-CS" sz="2400" spc="-1" strike="noStrike">
                <a:solidFill>
                  <a:srgbClr val="ffff00"/>
                </a:solidFill>
                <a:latin typeface="Comic Sans MS"/>
              </a:rPr>
              <a:t>HIV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1151640" y="134064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Comic Sans MS"/>
              </a:rPr>
              <a:t>Акутни </a:t>
            </a:r>
            <a:r>
              <a:rPr b="1" lang="sr-Latn-CS" sz="1800" spc="-1" strike="noStrike">
                <a:solidFill>
                  <a:srgbClr val="ffff00"/>
                </a:solidFill>
                <a:latin typeface="Comic Sans MS"/>
              </a:rPr>
              <a:t>HIV </a:t>
            </a:r>
            <a:r>
              <a:rPr b="1" lang="sr-CS" sz="1800" spc="-1" strike="noStrike">
                <a:solidFill>
                  <a:srgbClr val="ffff00"/>
                </a:solidFill>
                <a:latin typeface="Comic Sans MS"/>
              </a:rPr>
              <a:t>синд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332000" y="2133720"/>
            <a:ext cx="74880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авља се 3-6 недеља након примарне инфекције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ом код мање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од 50% инфициран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и се презентује у вид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дрома инфлуенц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нонуклеозног синдрома и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розног менингитис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олест траје 2-3 недеље и спонтано пролаз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кутни HIV синдром се поклапа са сероконверзиј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E4F8-0EB2-495B-B942-6464039BD3CA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826920" y="981000"/>
            <a:ext cx="8317080" cy="46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Comic Sans MS"/>
              </a:rPr>
              <a:t>ИСТОРИЈ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980. -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GRI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ay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 R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lated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mmuno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eficiency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984. -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AID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cqvired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mmunodeficiency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ndrom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Comic Sans MS"/>
              </a:rPr>
              <a:t>ЕТИОЛОГИЈА СИНДРОМА СТЕЧЕНЕ ИМУНОДЕФИЦИЈ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983. -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LA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ymphadenopathy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sociated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rus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984. -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HTLV II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uman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ymphotropic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rus type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1986. -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HI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- 1 (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uman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mmunodeficiency </a:t>
            </a:r>
            <a:r>
              <a:rPr b="1" lang="hr-HR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iru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6193-E9D2-48EE-9145-255871AF787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1056600" y="245160"/>
            <a:ext cx="51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Comic Sans MS"/>
              </a:rPr>
              <a:t>Асимптоматска фаза HIV инфекције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1042920" y="692280"/>
            <a:ext cx="79930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дговара инкубационом периоду код AIDS-а (просечно износи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година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ротиче без симпто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изикални налаз је уредан (евентуално може се наћи PGL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рој 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лимфоцита прогресивно оп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6" name="Picture 6" descr="Hivtimecourse"/>
          <p:cNvPicPr/>
          <p:nvPr/>
        </p:nvPicPr>
        <p:blipFill>
          <a:blip r:embed="rId1"/>
          <a:stretch/>
        </p:blipFill>
        <p:spPr>
          <a:xfrm>
            <a:off x="1187280" y="2673360"/>
            <a:ext cx="676944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E44-AB08-4632-92FC-F7C1E2621AE3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1022040" y="389520"/>
            <a:ext cx="76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Comic Sans MS"/>
              </a:rPr>
              <a:t>PGL (</a:t>
            </a:r>
            <a:r>
              <a:rPr b="1" lang="sr-CS" sz="2000" spc="-1" strike="noStrike">
                <a:solidFill>
                  <a:srgbClr val="ffff00"/>
                </a:solidFill>
                <a:latin typeface="Comic Sans MS"/>
              </a:rPr>
              <a:t>Перзистентна генерализована лимфаденопатија</a:t>
            </a:r>
            <a:r>
              <a:rPr b="1" lang="sr-Latn-CS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934920" y="1197000"/>
            <a:ext cx="774072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јагностички критеријуми з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G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аденопатија у 2 или више неингвиналних регија у трајању дужем од 3 месе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р лимфних нодуса већи од 1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Остале карактеристике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GL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-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ни нодуси су покретни, безболни, промера до 2×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аденопатија је симетрична, обостра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столошки налаз: реактивна хиперплазија лимфних нодуса (као последица имунског одговора на локалну репликацију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-а у лимфном тки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3334-2C27-4603-B5A9-30D21E332B4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1022040" y="389520"/>
            <a:ext cx="76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Comic Sans MS"/>
              </a:rPr>
              <a:t>PGL (</a:t>
            </a:r>
            <a:r>
              <a:rPr b="1" lang="sr-CS" sz="2000" spc="-1" strike="noStrike">
                <a:solidFill>
                  <a:srgbClr val="ffff00"/>
                </a:solidFill>
                <a:latin typeface="Comic Sans MS"/>
              </a:rPr>
              <a:t>Перзистентна генерализована лимфаденопатија</a:t>
            </a:r>
            <a:r>
              <a:rPr b="1" lang="sr-Latn-CS" sz="20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934920" y="1197000"/>
            <a:ext cx="774072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јагностички критеријуми за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G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аденопатија у 2 или више неингвиналних регија у трајању дужем од 3 месец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мер лимфних нодуса већи од 1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Остале карактеристике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GL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-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ни нодуси су покретни, безболни, промера до 2×2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аденопатија је симетрична, обостран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27160" indent="-227160">
              <a:lnSpc>
                <a:spcPct val="14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столошки налаз: реактивна хиперплазија лимфних нодуса (као последица имунског одговора на локалну репликацију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-а у лимфном тки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0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7E8E-9671-4321-8DD4-C953876698F6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1529640" y="533880"/>
            <a:ext cx="45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Симптоматска фаза</a:t>
            </a:r>
            <a:r>
              <a:rPr b="0" lang="sr-Latn-CS" sz="2000" spc="-1" strike="noStrike">
                <a:solidFill>
                  <a:srgbClr val="ffff00"/>
                </a:solidFill>
                <a:latin typeface="Comic Sans MS"/>
              </a:rPr>
              <a:t> HIV </a:t>
            </a: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Rectangle 5"/>
          <p:cNvSpPr/>
          <p:nvPr/>
        </p:nvSpPr>
        <p:spPr>
          <a:xfrm>
            <a:off x="1242360" y="134064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A.   Ko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нституционална болест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 ("Wasting syndrome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971640" y="1989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јагностички критеријуми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вишена температура у трајању дужем од 3 месец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лаксалост, знојењ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олив који траје дуже од месец дан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Губитак телесне мас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више од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10%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требно је искључити нека друга патолошка стањ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(o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ртунистичке инфекције или тумор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ји могу да проузр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ују сличне симптоме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8764-5C95-455E-9894-0B7357AB08B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Picture 4" descr="konstitucionalna bolest"/>
          <p:cNvPicPr/>
          <p:nvPr/>
        </p:nvPicPr>
        <p:blipFill>
          <a:blip r:embed="rId1"/>
          <a:stretch/>
        </p:blipFill>
        <p:spPr>
          <a:xfrm>
            <a:off x="1332000" y="1268280"/>
            <a:ext cx="6769080" cy="4488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5"/>
          <p:cNvSpPr/>
          <p:nvPr/>
        </p:nvSpPr>
        <p:spPr>
          <a:xfrm>
            <a:off x="1358640" y="62064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Ko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нституционална болест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"Wasting syndrome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E66B-4434-4286-877B-95F7A5DB7C2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4402440" y="2144520"/>
            <a:ext cx="339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Rectangle 14"/>
          <p:cNvSpPr/>
          <p:nvPr/>
        </p:nvSpPr>
        <p:spPr>
          <a:xfrm>
            <a:off x="4362840" y="4642920"/>
            <a:ext cx="41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Rectangle 17"/>
          <p:cNvSpPr/>
          <p:nvPr/>
        </p:nvSpPr>
        <p:spPr>
          <a:xfrm>
            <a:off x="1264680" y="61992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Б.   Плућне манифест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1042920" y="1125360"/>
            <a:ext cx="7921800" cy="52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neumocystis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Jir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ovecii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Pneumonia (P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</a:rPr>
              <a:t>JP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Јавља се у више од 80% свих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IDS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болесн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 60% болесника јавља се као иницијална опортунистичка инфекц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КЛ слика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убфебрилност, сув кашаљ, диспнеја, ноћно знојење.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Ако се не лечи развија се АРДС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Рентгенски налаз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бострано интерстицијски инфилтр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Дијагноза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дентификација узрочника у бронхоалвеоларном секрету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  или биоптичком материјалу (плућном тки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185-35D5-4E07-B6A9-CA2C53DF0564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Picture 14" descr="Pneumocystis Carinii Pneumonija 2"/>
          <p:cNvPicPr/>
          <p:nvPr/>
        </p:nvPicPr>
        <p:blipFill>
          <a:blip r:embed="rId1"/>
          <a:stretch/>
        </p:blipFill>
        <p:spPr>
          <a:xfrm>
            <a:off x="611280" y="1557360"/>
            <a:ext cx="8128080" cy="34290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5"/>
          <p:cNvSpPr/>
          <p:nvPr/>
        </p:nvSpPr>
        <p:spPr>
          <a:xfrm>
            <a:off x="1042920" y="4762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Pneumocystis Pneumonia (PJ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1908000" y="515772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четна                                             узнапредовала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85C-8C61-4FB9-88E1-512E1520F5D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562040" y="980280"/>
            <a:ext cx="42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Cytomegalovirusni Pneumonitis (CMVP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76360" y="198900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и се тешко ра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кује од 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P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јчешће се јавља удружено са 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 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Дијагноза: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CR  CMV DNK бронхоалвеоларног лавата,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биопсија плућа (налаз џиновских ћелија у п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ћном ткиву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3E35-6AB4-49F0-9264-326845D366C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6" name="Picture 4" descr="cytomegalovirus"/>
          <p:cNvPicPr/>
          <p:nvPr/>
        </p:nvPicPr>
        <p:blipFill>
          <a:blip r:embed="rId1"/>
          <a:srcRect l="0" t="3678" r="0" b="7355"/>
          <a:stretch/>
        </p:blipFill>
        <p:spPr>
          <a:xfrm>
            <a:off x="395280" y="2060640"/>
            <a:ext cx="3981600" cy="34574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Citomegalovirusni pneumonitis 1"/>
          <p:cNvPicPr/>
          <p:nvPr/>
        </p:nvPicPr>
        <p:blipFill>
          <a:blip r:embed="rId2"/>
          <a:stretch/>
        </p:blipFill>
        <p:spPr>
          <a:xfrm>
            <a:off x="4859280" y="26028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7"/>
          <p:cNvSpPr/>
          <p:nvPr/>
        </p:nvSpPr>
        <p:spPr>
          <a:xfrm>
            <a:off x="324000" y="9079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ytomegalovirusni pneumonitis (CMV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9" name="Picture 9" descr="AIDS031"/>
          <p:cNvPicPr/>
          <p:nvPr/>
        </p:nvPicPr>
        <p:blipFill>
          <a:blip r:embed="rId3"/>
          <a:stretch/>
        </p:blipFill>
        <p:spPr>
          <a:xfrm>
            <a:off x="4500720" y="3500280"/>
            <a:ext cx="4368600" cy="28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EB5B-AA23-4E4A-9CFF-AA7A06203A2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1429200" y="907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Туберкулоза плућа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900000" y="1700280"/>
            <a:ext cx="47530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ешће се јавља у инфицираних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о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е реактивацијом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атентних TBC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жаришта у плућима и то рано у току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инфекције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6" descr="HIV tbc"/>
          <p:cNvPicPr/>
          <p:nvPr/>
        </p:nvPicPr>
        <p:blipFill>
          <a:blip r:embed="rId1"/>
          <a:stretch/>
        </p:blipFill>
        <p:spPr>
          <a:xfrm>
            <a:off x="1619280" y="3798720"/>
            <a:ext cx="3024000" cy="2603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TBC1"/>
          <p:cNvPicPr/>
          <p:nvPr/>
        </p:nvPicPr>
        <p:blipFill>
          <a:blip r:embed="rId2"/>
          <a:stretch/>
        </p:blipFill>
        <p:spPr>
          <a:xfrm>
            <a:off x="5796000" y="333360"/>
            <a:ext cx="3058920" cy="30369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nfPcP_milTbThA49"/>
          <p:cNvPicPr/>
          <p:nvPr/>
        </p:nvPicPr>
        <p:blipFill>
          <a:blip r:embed="rId3"/>
          <a:stretch/>
        </p:blipFill>
        <p:spPr>
          <a:xfrm>
            <a:off x="5940360" y="3720960"/>
            <a:ext cx="276696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692360" y="6021360"/>
            <a:ext cx="5830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9b9a98"/>
                </a:solidFill>
                <a:latin typeface="Tahoma"/>
              </a:rPr>
              <a:t>Облик и грађа  </a:t>
            </a:r>
            <a:r>
              <a:rPr b="1" lang="en-US" sz="1800" spc="-1" strike="noStrike">
                <a:solidFill>
                  <a:srgbClr val="9b9a98"/>
                </a:solidFill>
                <a:latin typeface="Tahoma"/>
              </a:rPr>
              <a:t>HIV</a:t>
            </a:r>
            <a:r>
              <a:rPr b="1" lang="sr-Latn-RS" sz="1800" spc="-1" strike="noStrike">
                <a:solidFill>
                  <a:srgbClr val="9b9a98"/>
                </a:solidFill>
                <a:latin typeface="Tahoma"/>
              </a:rPr>
              <a:t>-1</a:t>
            </a:r>
            <a:r>
              <a:rPr b="1" lang="en-US" sz="1800" spc="-1" strike="noStrike">
                <a:solidFill>
                  <a:srgbClr val="9b9a98"/>
                </a:solidFill>
                <a:latin typeface="Tahoma"/>
              </a:rPr>
              <a:t> </a:t>
            </a:r>
            <a:r>
              <a:rPr b="1" lang="sr-RS" sz="1800" spc="-1" strike="noStrike">
                <a:solidFill>
                  <a:srgbClr val="9b9a98"/>
                </a:solidFill>
                <a:latin typeface="Tahoma"/>
              </a:rPr>
              <a:t>виру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067E-7B06-4475-BC2C-7F7C0F812EEC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1445400" y="719640"/>
            <a:ext cx="47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Comic Sans MS"/>
              </a:rPr>
              <a:t>HIV (RNA вирус, Retrovirida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120920" y="324468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selooselooselo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905440" cy="38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D40F-16FC-4258-B5D6-86F25ABA7BF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1235520" y="548280"/>
            <a:ext cx="470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Cryptococcus neoformans pneumonia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CNP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1187280" y="1916280"/>
            <a:ext cx="648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ма карактеристике интерстицијске пнеумон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еђе се испоијава као масивна пнеумонија са излив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Picture 7" descr="AIDS069"/>
          <p:cNvPicPr/>
          <p:nvPr/>
        </p:nvPicPr>
        <p:blipFill>
          <a:blip r:embed="rId1"/>
          <a:stretch/>
        </p:blipFill>
        <p:spPr>
          <a:xfrm>
            <a:off x="3564000" y="3068640"/>
            <a:ext cx="4800600" cy="314316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3933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Хистолошки налаз у плућ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44B-90FC-4AE2-934C-E5A7FA2F660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1428840" y="835920"/>
            <a:ext cx="43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Lymphocytic interstitial pneumonia  </a:t>
            </a:r>
            <a:r>
              <a:rPr b="0" i="1" lang="sr-Latn-CS" sz="1800" spc="-1" strike="noStrike">
                <a:solidFill>
                  <a:srgbClr val="ffff00"/>
                </a:solidFill>
                <a:latin typeface="Tahoma"/>
              </a:rPr>
              <a:t>(LIP)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116000" y="1844640"/>
            <a:ext cx="633564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 ове пнеумо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је је HIV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Чешће се јавља у деце него у одраслих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3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и и радио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шки се презентује слично 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-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Picture 6" descr="LIP"/>
          <p:cNvPicPr/>
          <p:nvPr/>
        </p:nvPicPr>
        <p:blipFill>
          <a:blip r:embed="rId1"/>
          <a:stretch/>
        </p:blipFill>
        <p:spPr>
          <a:xfrm>
            <a:off x="4716360" y="3478320"/>
            <a:ext cx="4211640" cy="2809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art-a3061"/>
          <p:cNvPicPr/>
          <p:nvPr/>
        </p:nvPicPr>
        <p:blipFill>
          <a:blip r:embed="rId2"/>
          <a:stretch/>
        </p:blipFill>
        <p:spPr>
          <a:xfrm>
            <a:off x="468360" y="3429000"/>
            <a:ext cx="38098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00E5-C68D-4CCD-AED0-FAD1A4C96C28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46480" y="98028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Ц. Гастроинтестиналне манифестације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76360" y="1989000"/>
            <a:ext cx="597528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1. Орофарингеалне лез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ОРОФАРИНГЕАЛНА КАНДИД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зрочник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andida albicans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е форме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30400">
              <a:lnSpc>
                <a:spcPct val="19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сеудомембранозни тип кандидија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30400">
              <a:lnSpc>
                <a:spcPct val="19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ритематозни тип кандидијаз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6280" indent="-230400">
              <a:lnSpc>
                <a:spcPct val="19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пластични тип кандидијаз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7FA8-B1AE-47CB-B30E-36E99F3F1A3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0" name="Picture 4" descr="thrush"/>
          <p:cNvPicPr/>
          <p:nvPr/>
        </p:nvPicPr>
        <p:blipFill>
          <a:blip r:embed="rId1"/>
          <a:stretch/>
        </p:blipFill>
        <p:spPr>
          <a:xfrm>
            <a:off x="900000" y="2297160"/>
            <a:ext cx="5040360" cy="3419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5" descr="candida"/>
          <p:cNvPicPr/>
          <p:nvPr/>
        </p:nvPicPr>
        <p:blipFill>
          <a:blip r:embed="rId2"/>
          <a:stretch/>
        </p:blipFill>
        <p:spPr>
          <a:xfrm>
            <a:off x="6156360" y="1989000"/>
            <a:ext cx="2624040" cy="38163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Псеудомембранозни тип орофарингеалне кандидија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320-C052-485E-A15F-DFED8F57359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4" name="Picture 4" descr="candidiasis_vih"/>
          <p:cNvPicPr/>
          <p:nvPr/>
        </p:nvPicPr>
        <p:blipFill>
          <a:blip r:embed="rId1"/>
          <a:stretch/>
        </p:blipFill>
        <p:spPr>
          <a:xfrm>
            <a:off x="2195640" y="1989000"/>
            <a:ext cx="5472000" cy="365292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5"/>
          <p:cNvSpPr/>
          <p:nvPr/>
        </p:nvSpPr>
        <p:spPr>
          <a:xfrm>
            <a:off x="2337480" y="105264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Еритематозни тип орофарингеалне кандидија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35B9-18B7-4E26-B2C0-CBB2AE63BD6B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042920" y="1844640"/>
            <a:ext cx="8101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зрочник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EBV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резентује се у виду беличастих вертикалних набора на бочним странама јез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096560" y="549360"/>
            <a:ext cx="68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ОРАЛНА ПИЛОЗНА ЛЕУКОПЛАКИЈА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("Oral hairy leukoplakia"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9" name="Picture 6" descr="image04"/>
          <p:cNvPicPr/>
          <p:nvPr/>
        </p:nvPicPr>
        <p:blipFill>
          <a:blip r:embed="rId1"/>
          <a:stretch/>
        </p:blipFill>
        <p:spPr>
          <a:xfrm>
            <a:off x="1173240" y="3500280"/>
            <a:ext cx="3557520" cy="29656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hairy_tongue"/>
          <p:cNvPicPr/>
          <p:nvPr/>
        </p:nvPicPr>
        <p:blipFill>
          <a:blip r:embed="rId2"/>
          <a:stretch/>
        </p:blipFill>
        <p:spPr>
          <a:xfrm>
            <a:off x="5435640" y="3716280"/>
            <a:ext cx="338436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439E-9F20-4A08-94AF-FD4D059F1D1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207440" y="620640"/>
            <a:ext cx="52246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Езофаг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тиологија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. albicans, CMV, HS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имптоми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ретростернални бол, дисфаг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8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гноза: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зофагоскопија са биопсиј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5" descr="candida"/>
          <p:cNvPicPr/>
          <p:nvPr/>
        </p:nvPicPr>
        <p:blipFill>
          <a:blip r:embed="rId1"/>
          <a:stretch/>
        </p:blipFill>
        <p:spPr>
          <a:xfrm>
            <a:off x="1116000" y="2997360"/>
            <a:ext cx="3718080" cy="34081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cyto gaster"/>
          <p:cNvPicPr/>
          <p:nvPr/>
        </p:nvPicPr>
        <p:blipFill>
          <a:blip r:embed="rId2"/>
          <a:srcRect l="0" t="3861" r="0" b="0"/>
          <a:stretch/>
        </p:blipFill>
        <p:spPr>
          <a:xfrm>
            <a:off x="5364000" y="2924280"/>
            <a:ext cx="3392640" cy="34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236C-E4B9-425F-BCB9-BFA5E8A19773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651320" y="69120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3.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Дијареални синдр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116000" y="1413000"/>
            <a:ext cx="446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CS" sz="1600" spc="-1" strike="noStrike">
                <a:solidFill>
                  <a:srgbClr val="ffffff"/>
                </a:solidFill>
                <a:latin typeface="Tahoma"/>
              </a:rPr>
              <a:t>МПТОМ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јаре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бдоминални болов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Губитак на телесној мас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наци малнутриц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116000" y="3789360"/>
            <a:ext cx="7632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ahoma"/>
              </a:rPr>
              <a:t>ЕТИОЛОГИЈА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ryptosporidiu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Isospora bell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M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IV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Други узрочници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(Shigellae, S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lm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onellae, Giardia, Entam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eba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ystolitica, ..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256A-7BB8-401F-8105-715559E69E5F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395280" y="2104560"/>
            <a:ext cx="410544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чешће се јавља у усној дупљи и доњим партијама гастроинтестиналног трак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1763640" y="7650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4. Капошијев сар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Picture 14" descr="Kaposi’s_sarcoma_intraoral_AIDS_072_lores"/>
          <p:cNvPicPr/>
          <p:nvPr/>
        </p:nvPicPr>
        <p:blipFill>
          <a:blip r:embed="rId1"/>
          <a:stretch/>
        </p:blipFill>
        <p:spPr>
          <a:xfrm>
            <a:off x="4859280" y="1989000"/>
            <a:ext cx="391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2AAD-2E6C-4086-871A-D864C43A3ED5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1467720" y="5486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Д. Неуролошке манифестације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079640" y="1197000"/>
            <a:ext cx="806436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енинг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5880" indent="-2268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јчешћи узрочник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Cryptococcus neoformans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5880" indent="-2268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линички ток субакутан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фебрилност, главобоља, менингеални знаци, касније поремећај свести до ком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5880" indent="-2268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Ликворски налаз: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умерена плеоцитоза, протеини повишени, шећер снижен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5880" indent="-226800">
              <a:lnSpc>
                <a:spcPct val="18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Дијагноза: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икроскопски преглед ликвора, култура ликвора на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елективној подлози или детекција криптококног антигена у ликво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DB4-9A9C-4739-A09D-66FCF4C98F53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7" name="Picture 13" descr="hiv_tm_em"/>
          <p:cNvPicPr/>
          <p:nvPr/>
        </p:nvPicPr>
        <p:blipFill>
          <a:blip r:embed="rId1"/>
          <a:stretch/>
        </p:blipFill>
        <p:spPr>
          <a:xfrm>
            <a:off x="900000" y="692280"/>
            <a:ext cx="3743280" cy="3073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4"/>
          <p:cNvSpPr/>
          <p:nvPr/>
        </p:nvSpPr>
        <p:spPr>
          <a:xfrm>
            <a:off x="1042920" y="189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под електронским микроскоп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1692360" y="5175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Геном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HIV-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0" descr=""/>
          <p:cNvPicPr/>
          <p:nvPr/>
        </p:nvPicPr>
        <p:blipFill>
          <a:blip r:embed="rId2"/>
          <a:stretch/>
        </p:blipFill>
        <p:spPr>
          <a:xfrm>
            <a:off x="3924360" y="4076640"/>
            <a:ext cx="4895640" cy="2559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Image result for hiv electron microscopy"/>
          <p:cNvPicPr/>
          <p:nvPr/>
        </p:nvPicPr>
        <p:blipFill>
          <a:blip r:embed="rId3"/>
          <a:stretch/>
        </p:blipFill>
        <p:spPr>
          <a:xfrm>
            <a:off x="5940360" y="260280"/>
            <a:ext cx="302436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61D6-F603-4610-AB50-8D785EF6D2CE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971640" y="0"/>
            <a:ext cx="8172360" cy="22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2. Тоxоплазматски апсцес мозг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: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Toxopla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ma gondi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: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окални неуролошки испади, атаксија, поремећај свес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Дијагноза: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или MR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мозга (мултипли 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цеси у виду хиподензних зон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Picture 5" descr="toxoplasmosis1"/>
          <p:cNvPicPr/>
          <p:nvPr/>
        </p:nvPicPr>
        <p:blipFill>
          <a:blip r:embed="rId1"/>
          <a:stretch/>
        </p:blipFill>
        <p:spPr>
          <a:xfrm>
            <a:off x="971640" y="2421000"/>
            <a:ext cx="2535120" cy="3933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6" descr="toxoplasmosis2"/>
          <p:cNvPicPr/>
          <p:nvPr/>
        </p:nvPicPr>
        <p:blipFill>
          <a:blip r:embed="rId2"/>
          <a:stretch/>
        </p:blipFill>
        <p:spPr>
          <a:xfrm>
            <a:off x="3924360" y="2492280"/>
            <a:ext cx="4572000" cy="38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20AF-0156-4ACB-A703-BCEB8FB5B1ED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042920" y="115920"/>
            <a:ext cx="7850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3. Прогресивна Мултифокална Леукоенцефалопатија (ПМЛ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зрочник: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JC papova vi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ru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линичка слика: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оремећај говора до афазије, сметње вида до </a:t>
            </a:r>
            <a:br>
              <a:rPr sz="1800"/>
            </a:b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слепоће, хемипареза, атакс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Дијагноза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PCR JC virusa из ликвора,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ли MR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зга (мултифокалне хиподензне зоне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2" name="Picture 4" descr="C:\Users\Nemanja\Desktop\Đeković Ana\19.IV 2012\001470AA.jpg"/>
          <p:cNvPicPr/>
          <p:nvPr/>
        </p:nvPicPr>
        <p:blipFill>
          <a:blip r:embed="rId1"/>
          <a:srcRect l="24729" t="0" r="24364" b="0"/>
          <a:stretch/>
        </p:blipFill>
        <p:spPr>
          <a:xfrm>
            <a:off x="1042920" y="2060640"/>
            <a:ext cx="3287880" cy="38494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C:\Users\Nemanja\Desktop\Đeković Ana\08.IV 2013\00106851.jpg"/>
          <p:cNvPicPr/>
          <p:nvPr/>
        </p:nvPicPr>
        <p:blipFill>
          <a:blip r:embed="rId2"/>
          <a:srcRect l="21818" t="0" r="24364" b="0"/>
          <a:stretch/>
        </p:blipFill>
        <p:spPr>
          <a:xfrm>
            <a:off x="5148360" y="2133720"/>
            <a:ext cx="3450960" cy="3743280"/>
          </a:xfrm>
          <a:prstGeom prst="rect">
            <a:avLst/>
          </a:prstGeom>
          <a:ln w="0">
            <a:noFill/>
          </a:ln>
        </p:spPr>
      </p:pic>
      <p:sp>
        <p:nvSpPr>
          <p:cNvPr id="504" name="Footer Placeholder 3"/>
          <p:cNvSpPr/>
          <p:nvPr/>
        </p:nvSpPr>
        <p:spPr>
          <a:xfrm>
            <a:off x="4643280" y="602136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ahoma"/>
              </a:rPr>
              <a:t>Годину дана након започињања антиретровирусне терапиј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Footer Placeholder 3"/>
          <p:cNvSpPr/>
          <p:nvPr/>
        </p:nvSpPr>
        <p:spPr>
          <a:xfrm>
            <a:off x="684360" y="6021360"/>
            <a:ext cx="352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ffff00"/>
                </a:solidFill>
                <a:latin typeface="Arial"/>
              </a:rPr>
              <a:t>Пре започињања антиретровирусне терапиј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79D1-76CB-490C-A761-73A317D2DD2B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1189800" y="387000"/>
            <a:ext cx="5050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5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Цитомегаловирусни ретинити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5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50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колико се не лечи завршава се слепил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8" name="Picture 5" descr="CMV"/>
          <p:cNvPicPr/>
          <p:nvPr/>
        </p:nvPicPr>
        <p:blipFill>
          <a:blip r:embed="rId1"/>
          <a:stretch/>
        </p:blipFill>
        <p:spPr>
          <a:xfrm>
            <a:off x="2050920" y="2276640"/>
            <a:ext cx="5113440" cy="374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0971-C7BE-4122-AF23-4CE621E4716E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0" y="620640"/>
            <a:ext cx="514836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5. AIDS Dementia Complex (AD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астаје као пос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едица директног дејства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-а на мождани паренхим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У клиничкој слици доминирају психички поремећаји и неуролошки испад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Психички поремећаји: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исаони поремећаји, психичка успореност, губита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нтереса за околину, апатија, депресија, интелектуална редукција до деменц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1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Неуролошки испади: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несигурност у ходу, некоординисаност покрета, тремор, успорен говор, инконтиненција,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арапаре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Дијагноза: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CT или MR ендокранијума (ди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зна атрофија мозг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1" name="Picture 6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495600" cy="42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1F0C-2A49-4D10-95BB-1B77F9165BBD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1187280" y="836640"/>
            <a:ext cx="7956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Мијелопатија </a:t>
            </a:r>
            <a:r>
              <a:rPr b="0" i="1" lang="sr-CS" sz="1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периферна неуропатиј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2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стају директним дејством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-а на кичмену мождину, односно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ериферне нерв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2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ијелопатију има 1/4 оболелих од СИДЕ: парезе (парализе) доњих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екстремитета уз фекалну и уринарну инконтиненцију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2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ериферна неуропатија је ређа: парестезије са слабошћу у ногама и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исталне атрофиј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2F7F-8345-4E14-97DF-2EFCDB63E639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1233720" y="691560"/>
            <a:ext cx="55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7. Капошијев сарком и нон Хочкинов лимф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buClr>
                <a:srgbClr val="ffffff"/>
              </a:buClr>
              <a:buFont typeface="Tahoma"/>
              <a:buChar char="•"/>
              <a:tabLst>
                <a:tab algn="l" pos="128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Често узрокују спациокомпресивни синдром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6" name="Picture 5" descr="limphoma"/>
          <p:cNvPicPr/>
          <p:nvPr/>
        </p:nvPicPr>
        <p:blipFill>
          <a:blip r:embed="rId1"/>
          <a:stretch/>
        </p:blipFill>
        <p:spPr>
          <a:xfrm>
            <a:off x="4859280" y="2421000"/>
            <a:ext cx="2949480" cy="3384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limphoma2"/>
          <p:cNvPicPr/>
          <p:nvPr/>
        </p:nvPicPr>
        <p:blipFill>
          <a:blip r:embed="rId2"/>
          <a:stretch/>
        </p:blipFill>
        <p:spPr>
          <a:xfrm>
            <a:off x="1547640" y="2421000"/>
            <a:ext cx="269100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10F-A473-4AE3-AF79-0392FFD902D5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1465560" y="47556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Е.   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Дерматолошке манифест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47640" y="1700280"/>
            <a:ext cx="41767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ffffff"/>
                </a:solidFill>
                <a:uFillTx/>
                <a:latin typeface="Tahoma"/>
              </a:rPr>
              <a:t>Бактеријске 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aureu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Folikulitis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ulozni impetig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Ektim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bscesi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elulit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Tahoma"/>
              </a:rPr>
              <a:t>S. pyogen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ulozni impetigo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6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elulit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954800" y="923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1.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8" descr="5"/>
          <p:cNvPicPr/>
          <p:nvPr/>
        </p:nvPicPr>
        <p:blipFill>
          <a:blip r:embed="rId1"/>
          <a:stretch/>
        </p:blipFill>
        <p:spPr>
          <a:xfrm>
            <a:off x="5364000" y="1484280"/>
            <a:ext cx="3240360" cy="21607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0" descr="ectima03"/>
          <p:cNvPicPr/>
          <p:nvPr/>
        </p:nvPicPr>
        <p:blipFill>
          <a:blip r:embed="rId2"/>
          <a:srcRect l="10200" t="18508" r="11697" b="16914"/>
          <a:stretch/>
        </p:blipFill>
        <p:spPr>
          <a:xfrm>
            <a:off x="5219640" y="3860640"/>
            <a:ext cx="3311640" cy="2562480"/>
          </a:xfrm>
          <a:prstGeom prst="rect">
            <a:avLst/>
          </a:prstGeom>
          <a:ln w="0">
            <a:noFill/>
          </a:ln>
        </p:spPr>
      </p:pic>
      <p:sp>
        <p:nvSpPr>
          <p:cNvPr id="524" name="Line 11"/>
          <p:cNvSpPr/>
          <p:nvPr/>
        </p:nvSpPr>
        <p:spPr>
          <a:xfrm flipV="1">
            <a:off x="3419640" y="2492280"/>
            <a:ext cx="172872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3132000" y="3860640"/>
            <a:ext cx="1944720" cy="1008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9AA-86DE-4FB8-990C-4CF539EC6BC7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611280" y="404640"/>
            <a:ext cx="324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Вирусне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S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: улцерозни херпес гениталне или орофацијалне региј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Z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: дисеминовани херпес зостер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ondylomata acuminat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6" descr="herpes1"/>
          <p:cNvPicPr/>
          <p:nvPr/>
        </p:nvPicPr>
        <p:blipFill>
          <a:blip r:embed="rId1"/>
          <a:stretch/>
        </p:blipFill>
        <p:spPr>
          <a:xfrm>
            <a:off x="6443640" y="2421000"/>
            <a:ext cx="2336760" cy="3255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herpes zoster"/>
          <p:cNvPicPr/>
          <p:nvPr/>
        </p:nvPicPr>
        <p:blipFill>
          <a:blip r:embed="rId2"/>
          <a:stretch/>
        </p:blipFill>
        <p:spPr>
          <a:xfrm>
            <a:off x="3995640" y="333360"/>
            <a:ext cx="2220840" cy="3457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9" descr=""/>
          <p:cNvPicPr/>
          <p:nvPr/>
        </p:nvPicPr>
        <p:blipFill>
          <a:blip r:embed="rId3"/>
          <a:stretch/>
        </p:blipFill>
        <p:spPr>
          <a:xfrm>
            <a:off x="2771640" y="4149720"/>
            <a:ext cx="338472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8745-E6B3-4326-9B58-AE2AD8BCE264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1227600" y="188640"/>
            <a:ext cx="368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Tahoma"/>
              </a:rPr>
              <a:t>Гљивичне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ожна криптококоз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inea corporis и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онихомикоза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3" name="Picture 6" descr="2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557360"/>
            <a:ext cx="3413160" cy="24987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7" descr="AIDS gljivice"/>
          <p:cNvPicPr/>
          <p:nvPr/>
        </p:nvPicPr>
        <p:blipFill>
          <a:blip r:embed="rId3"/>
          <a:stretch/>
        </p:blipFill>
        <p:spPr>
          <a:xfrm>
            <a:off x="5292720" y="1197000"/>
            <a:ext cx="3602160" cy="47275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lateral%20onychomycosis"/>
          <p:cNvPicPr/>
          <p:nvPr/>
        </p:nvPicPr>
        <p:blipFill>
          <a:blip r:embed="rId4"/>
          <a:stretch/>
        </p:blipFill>
        <p:spPr>
          <a:xfrm>
            <a:off x="1835280" y="4292640"/>
            <a:ext cx="2520720" cy="227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231-2B26-4B9A-8DC0-FF5661FE9023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971640" y="4759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2.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Еритемосквамозне дерматоз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Себороични дерматитис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Псорија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6" descr="AIDS_seborrheic_dermatitis_Ojoh"/>
          <p:cNvPicPr/>
          <p:nvPr/>
        </p:nvPicPr>
        <p:blipFill>
          <a:blip r:embed="rId1"/>
          <a:stretch/>
        </p:blipFill>
        <p:spPr>
          <a:xfrm>
            <a:off x="1538280" y="2133720"/>
            <a:ext cx="2467080" cy="288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psvulgaris11"/>
          <p:cNvPicPr/>
          <p:nvPr/>
        </p:nvPicPr>
        <p:blipFill>
          <a:blip r:embed="rId2"/>
          <a:stretch/>
        </p:blipFill>
        <p:spPr>
          <a:xfrm>
            <a:off x="5292720" y="692280"/>
            <a:ext cx="3649680" cy="2543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psoriasis_narbild"/>
          <p:cNvPicPr/>
          <p:nvPr/>
        </p:nvPicPr>
        <p:blipFill>
          <a:blip r:embed="rId3"/>
          <a:stretch/>
        </p:blipFill>
        <p:spPr>
          <a:xfrm>
            <a:off x="5724360" y="3429000"/>
            <a:ext cx="2503800" cy="3095640"/>
          </a:xfrm>
          <a:prstGeom prst="rect">
            <a:avLst/>
          </a:prstGeom>
          <a:ln w="0">
            <a:noFill/>
          </a:ln>
        </p:spPr>
      </p:pic>
      <p:sp>
        <p:nvSpPr>
          <p:cNvPr id="541" name="AutoShape 9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ACB5-E649-4102-BC6A-AA0E22A814B8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1413720" y="359280"/>
            <a:ext cx="284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Comic Sans MS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1042920" y="112536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Резервоар 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V-а и извор инфекције је </a:t>
            </a:r>
            <a:r>
              <a:rPr b="1" i="1" lang="en-US" sz="1800" spc="-1" strike="noStrike">
                <a:solidFill>
                  <a:srgbClr val="ffff00"/>
                </a:solidFill>
                <a:latin typeface="Tahoma"/>
              </a:rPr>
              <a:t>HIV</a:t>
            </a:r>
            <a:r>
              <a:rPr b="1" i="1" lang="hr-HR" sz="1800" spc="-1" strike="noStrike">
                <a:solidFill>
                  <a:srgbClr val="ffff00"/>
                </a:solidFill>
                <a:latin typeface="Tahoma"/>
              </a:rPr>
              <a:t>-ом инфициран човек</a:t>
            </a:r>
            <a:r>
              <a:rPr b="1" i="1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HIV је доказан 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крви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сперми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сузам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пљувачки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мајчином млеку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вагиналном секрету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ahoma"/>
              </a:rPr>
              <a:t>ликво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1042920" y="4437000"/>
            <a:ext cx="7201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Телесне течности путем којих се може пренети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у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крв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сперм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вагинални секрет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мајчино млек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83F-C4C5-4791-A510-929DA2A4B33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1408320" y="1051920"/>
            <a:ext cx="299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апошијев сарком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он-Хочкинов лимф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1619280" y="476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3. Тумо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6" descr="karpsarc2"/>
          <p:cNvPicPr/>
          <p:nvPr/>
        </p:nvPicPr>
        <p:blipFill>
          <a:blip r:embed="rId1"/>
          <a:stretch/>
        </p:blipFill>
        <p:spPr>
          <a:xfrm>
            <a:off x="4932360" y="2205000"/>
            <a:ext cx="3351240" cy="4103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Kaposi2"/>
          <p:cNvPicPr/>
          <p:nvPr/>
        </p:nvPicPr>
        <p:blipFill>
          <a:blip r:embed="rId2"/>
          <a:stretch/>
        </p:blipFill>
        <p:spPr>
          <a:xfrm>
            <a:off x="1187280" y="2133720"/>
            <a:ext cx="305928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56BB-7F10-4616-9918-3610B0D8387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350000" y="907200"/>
            <a:ext cx="542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Ф.   Остала стања у вези са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HIV 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инфекциј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403280" y="2133720"/>
            <a:ext cx="66978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Кардиомиопат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Фокална и сегментна гломерулосклероз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Оток пљувачних жлезд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3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ИТП (Идиопатска Тромбоцитопенијска Пурпура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B19-8A11-4CDD-B8FE-FB38A9CBE84E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1258920" y="3330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Класификацијски систем за HIV инфекцију према критеријумима CDC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-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539640" y="1341360"/>
          <a:ext cx="8353440" cy="4454640"/>
        </p:xfrm>
        <a:graphic>
          <a:graphicData uri="http://schemas.openxmlformats.org/drawingml/2006/table">
            <a:tbl>
              <a:tblPr/>
              <a:tblGrid>
                <a:gridCol w="2460600"/>
                <a:gridCol w="1874880"/>
                <a:gridCol w="1930320"/>
                <a:gridCol w="2087640"/>
              </a:tblGrid>
              <a:tr h="492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ке категор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је према броју </a:t>
                      </a:r>
                      <a:br>
                        <a:rPr sz="1800"/>
                      </a:b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0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T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оцит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m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мпт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PGL или акутна HIV инфе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атска (која не припад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i 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DS "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ивне болести"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&gt; 500 (&gt; 29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200-499 (14-28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&lt; 200 (&lt; 14%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sr-Latn-C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F5D-B387-40FB-B9C4-3344066F3805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476360" y="836640"/>
          <a:ext cx="4753080" cy="4543560"/>
        </p:xfrm>
        <a:graphic>
          <a:graphicData uri="http://schemas.openxmlformats.org/drawingml/2006/table">
            <a:tbl>
              <a:tblPr/>
              <a:tblGrid>
                <a:gridCol w="475308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Категорија </a:t>
                      </a:r>
                      <a:r>
                        <a:rPr b="1" lang="sr-Latn-C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офарингеална кандидиј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агинална кандидија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ациларна ангиомат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ласаста леукоплакиј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рвикална дисплазија/carcinoma in si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T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стери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223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иферна неуропат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3B88-2B22-458F-B45E-CB298B190E45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71640" y="0"/>
            <a:ext cx="788508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Категорија 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Цервикални карцином, инвазив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V- било ког органа осим јетре, слезине и лимфних жлез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SV инфекција, хронична мукокутана или висцералних орга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стоплазмоза, екстрапулмонал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V wаsting syndr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V енцефалопатија (ADC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зоспор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птококоза, екстрапулмонал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ндидијаза једњака, трахеје, бронхија или плућ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риптоспориди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апошијев сар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H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робактериозе – M. avium ili M. kansasii, дисеминована. M.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uberculosis, екстрапулмонална и/или дисеминована и плућ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икроспоридио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Нокардијаз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неумоцитоза, плућ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алмонелозна сеп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ксоплазмоза, висцерал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ронгилоидоза, екстраинтестинал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неумонија, рекурентна бактеријс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5324-FF9C-4A47-A8A2-1FE353E83FBA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968760" y="749880"/>
            <a:ext cx="47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Дијагноза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HIV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инфекције и 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AIDS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-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900000" y="2189160"/>
            <a:ext cx="8136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Клиничка слик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Епидемиолошки подац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2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Лабораторијске анализе (имунолошке и вирусолошке анализе)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AFF3-7707-4E5A-9A96-F6B887FCFF23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116000" y="765000"/>
            <a:ext cx="784872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. Неспецифична имунодијагностика 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HIV 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Лимфопенија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L &lt; 1 500/mm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мањен апсолутни број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лимфоцита (&lt; 500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/mm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/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&lt; 1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Хипергамаглобулинем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мањена активност НК ћел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мањен одговор Т лимфоцита на митогене и антиген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Кожна анерг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9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већана концентрација ß</a:t>
            </a:r>
            <a:r>
              <a:rPr b="0" lang="sr-CS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микроглобулина и </a:t>
            </a:r>
            <a:r>
              <a:rPr b="0" lang="sr-CS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r-C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i="1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тимозина у серум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272C-6FAB-4D69-A8CC-D31BF75CE7E4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1159200" y="1051920"/>
            <a:ext cx="64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I.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Специфична имунодијагностика HIV 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971640" y="1628640"/>
            <a:ext cx="7777080" cy="47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1.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Доказивање антитела на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HIV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(анти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HIV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Анти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е појављује најчешће између 6 недеља и 6 месеци након </a:t>
            </a:r>
            <a:br>
              <a:rPr sz="1800"/>
            </a:b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За њихово доказивање најчешће се користи имуноензимски тест (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ELISA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spcAft>
                <a:spcPts val="1125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Western - bloot test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(потврдни тест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2.</a:t>
            </a:r>
            <a:r>
              <a:rPr b="1" lang="sr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Доказивање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HIV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-антигена (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HIV-p24</a:t>
            </a:r>
            <a:r>
              <a:rPr b="1" i="1" lang="sr-CS" sz="1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-Ag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се појављује 2 недеље након инфекциј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Позитива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-Ag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тест указује н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у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1360" indent="-171360">
              <a:lnSpc>
                <a:spcPct val="15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егативан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-Ag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тест не искључује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екциј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B84A-3687-4873-A23B-24ED8CFB4340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258920" y="981000"/>
            <a:ext cx="56167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3. Изолација вируса (култивисањем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се може изоловати из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имфоцита периферне крв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Лимфних нодус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Мозг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1" i="1" lang="sr-Latn-CS" sz="1800" spc="-1" strike="noStrike">
                <a:solidFill>
                  <a:srgbClr val="ffff00"/>
                </a:solidFill>
                <a:latin typeface="Tahoma"/>
              </a:rPr>
              <a:t>Доказивање генетског материјала HIV-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7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 u="sng">
                <a:solidFill>
                  <a:srgbClr val="00b050"/>
                </a:solidFill>
                <a:uFillTx/>
                <a:latin typeface="Tahoma"/>
              </a:rPr>
              <a:t>PCR (Polymeras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Tahoma"/>
              </a:rPr>
              <a:t>е</a:t>
            </a:r>
            <a:r>
              <a:rPr b="1" lang="sr-Latn-CS" sz="1800" spc="-1" strike="noStrike" u="sng">
                <a:solidFill>
                  <a:srgbClr val="00b050"/>
                </a:solidFill>
                <a:uFillTx/>
                <a:latin typeface="Tahoma"/>
              </a:rPr>
              <a:t> Chain Re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Tahoma"/>
              </a:rPr>
              <a:t>а</a:t>
            </a:r>
            <a:r>
              <a:rPr b="1" lang="sr-Latn-CS" sz="1800" spc="-1" strike="noStrike" u="sng">
                <a:solidFill>
                  <a:srgbClr val="00b050"/>
                </a:solidFill>
                <a:uFillTx/>
                <a:latin typeface="Tahoma"/>
              </a:rPr>
              <a:t>ction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ahoma"/>
              </a:rPr>
              <a:t>Инфективне болести - Проф. др Предраг Чановић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C55F-6CF8-4634-B99E-B44B4F5DA3D7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D310-262C-45C4-98AC-FC936FA61CAB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595440" y="333360"/>
            <a:ext cx="990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1585800" y="48564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595440" y="48564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595440" y="1019160"/>
            <a:ext cx="990360" cy="2438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Oval 12"/>
          <p:cNvSpPr/>
          <p:nvPr/>
        </p:nvSpPr>
        <p:spPr>
          <a:xfrm>
            <a:off x="595440" y="942840"/>
            <a:ext cx="9903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Oval 13"/>
          <p:cNvSpPr/>
          <p:nvPr/>
        </p:nvSpPr>
        <p:spPr>
          <a:xfrm>
            <a:off x="2195640" y="333360"/>
            <a:ext cx="990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3948120" y="333360"/>
            <a:ext cx="9907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Oval 15"/>
          <p:cNvSpPr/>
          <p:nvPr/>
        </p:nvSpPr>
        <p:spPr>
          <a:xfrm>
            <a:off x="5776920" y="333360"/>
            <a:ext cx="9907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Oval 16"/>
          <p:cNvSpPr/>
          <p:nvPr/>
        </p:nvSpPr>
        <p:spPr>
          <a:xfrm>
            <a:off x="7453440" y="333360"/>
            <a:ext cx="9903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7"/>
          <p:cNvSpPr/>
          <p:nvPr/>
        </p:nvSpPr>
        <p:spPr>
          <a:xfrm>
            <a:off x="3186000" y="48564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Line 18"/>
          <p:cNvSpPr/>
          <p:nvPr/>
        </p:nvSpPr>
        <p:spPr>
          <a:xfrm>
            <a:off x="2195640" y="48564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948120" y="48564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4932360" y="476280"/>
            <a:ext cx="0" cy="2895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Line 21"/>
          <p:cNvSpPr/>
          <p:nvPr/>
        </p:nvSpPr>
        <p:spPr>
          <a:xfrm>
            <a:off x="5776920" y="48564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Line 22"/>
          <p:cNvSpPr/>
          <p:nvPr/>
        </p:nvSpPr>
        <p:spPr>
          <a:xfrm>
            <a:off x="6767640" y="48564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Line 23"/>
          <p:cNvSpPr/>
          <p:nvPr/>
        </p:nvSpPr>
        <p:spPr>
          <a:xfrm>
            <a:off x="7453440" y="48564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8443800" y="485640"/>
            <a:ext cx="0" cy="297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Rectangle 25"/>
          <p:cNvSpPr/>
          <p:nvPr/>
        </p:nvSpPr>
        <p:spPr>
          <a:xfrm>
            <a:off x="2195640" y="2162160"/>
            <a:ext cx="990360" cy="1295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Oval 26"/>
          <p:cNvSpPr/>
          <p:nvPr/>
        </p:nvSpPr>
        <p:spPr>
          <a:xfrm>
            <a:off x="2195640" y="2009880"/>
            <a:ext cx="9903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Oval 27"/>
          <p:cNvSpPr/>
          <p:nvPr/>
        </p:nvSpPr>
        <p:spPr>
          <a:xfrm>
            <a:off x="595440" y="3381480"/>
            <a:ext cx="9903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Oval 28"/>
          <p:cNvSpPr/>
          <p:nvPr/>
        </p:nvSpPr>
        <p:spPr>
          <a:xfrm>
            <a:off x="2195640" y="3381480"/>
            <a:ext cx="99036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Rectangle 29"/>
          <p:cNvSpPr/>
          <p:nvPr/>
        </p:nvSpPr>
        <p:spPr>
          <a:xfrm>
            <a:off x="3948120" y="2771640"/>
            <a:ext cx="99072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Oval 30"/>
          <p:cNvSpPr/>
          <p:nvPr/>
        </p:nvSpPr>
        <p:spPr>
          <a:xfrm>
            <a:off x="3948120" y="2619360"/>
            <a:ext cx="9907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Oval 31"/>
          <p:cNvSpPr/>
          <p:nvPr/>
        </p:nvSpPr>
        <p:spPr>
          <a:xfrm>
            <a:off x="3948120" y="3381480"/>
            <a:ext cx="9907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Rectangle 32"/>
          <p:cNvSpPr/>
          <p:nvPr/>
        </p:nvSpPr>
        <p:spPr>
          <a:xfrm>
            <a:off x="5776920" y="3076560"/>
            <a:ext cx="99072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Oval 33"/>
          <p:cNvSpPr/>
          <p:nvPr/>
        </p:nvSpPr>
        <p:spPr>
          <a:xfrm>
            <a:off x="5776920" y="3000240"/>
            <a:ext cx="9907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Oval 34"/>
          <p:cNvSpPr/>
          <p:nvPr/>
        </p:nvSpPr>
        <p:spPr>
          <a:xfrm>
            <a:off x="5776920" y="3381480"/>
            <a:ext cx="99072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Oval 35"/>
          <p:cNvSpPr/>
          <p:nvPr/>
        </p:nvSpPr>
        <p:spPr>
          <a:xfrm>
            <a:off x="7453440" y="3381480"/>
            <a:ext cx="99036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7453440" y="34574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90520" y="3610080"/>
            <a:ext cx="8534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Text Box 38"/>
          <p:cNvSpPr/>
          <p:nvPr/>
        </p:nvSpPr>
        <p:spPr>
          <a:xfrm>
            <a:off x="2195640" y="1324080"/>
            <a:ext cx="102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пе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1,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Text Box 39"/>
          <p:cNvSpPr/>
          <p:nvPr/>
        </p:nvSpPr>
        <p:spPr>
          <a:xfrm>
            <a:off x="3851280" y="1557360"/>
            <a:ext cx="127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агинал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7,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40"/>
          <p:cNvSpPr/>
          <p:nvPr/>
        </p:nvSpPr>
        <p:spPr>
          <a:xfrm>
            <a:off x="670320" y="1171440"/>
            <a:ext cx="8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Кр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8,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Text Box 41"/>
          <p:cNvSpPr/>
          <p:nvPr/>
        </p:nvSpPr>
        <p:spPr>
          <a:xfrm>
            <a:off x="5744880" y="1857240"/>
            <a:ext cx="11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ајчин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ле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,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Text Box 42"/>
          <p:cNvSpPr/>
          <p:nvPr/>
        </p:nvSpPr>
        <p:spPr>
          <a:xfrm>
            <a:off x="7359480" y="256716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љувач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Text Box 43"/>
          <p:cNvSpPr/>
          <p:nvPr/>
        </p:nvSpPr>
        <p:spPr>
          <a:xfrm>
            <a:off x="250920" y="39337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Просечан број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HIV парти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кула у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1 ml 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појединих телесних течности код инфицираних HIV-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44"/>
          <p:cNvSpPr/>
          <p:nvPr/>
        </p:nvSpPr>
        <p:spPr>
          <a:xfrm>
            <a:off x="1042920" y="4581360"/>
            <a:ext cx="7201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Сигурно утврђени путеви преношењ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V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-инфек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Крв и крвни деривати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Сексуална трансмисија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Мајка - дете трансмисиј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9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536-EE06-4493-8553-FA260807C8A2}" type="slidenum">
              <a:rPr b="0" i="1" lang="en-US" sz="12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8201160" y="6400800"/>
            <a:ext cx="94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BFAE-FBC0-4838-B86E-B9E154AB7560}" type="slidenum">
              <a:rPr b="1" lang="en-US" sz="1600" spc="-1" strike="noStrike">
                <a:solidFill>
                  <a:srgbClr val="a116e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1687680" y="332280"/>
            <a:ext cx="61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8c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К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омбинованa антиретровируснa терапијa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 HAART</a:t>
            </a:r>
            <a:r>
              <a:rPr b="0" lang="sr-Latn-CS" sz="2000" spc="-1" strike="noStrike">
                <a:solidFill>
                  <a:srgbClr val="00c8c3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(eng.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ighly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ctive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nti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etroviral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sr-Latn-CS" sz="2000" spc="-1" strike="noStrike">
                <a:solidFill>
                  <a:srgbClr val="ffff66"/>
                </a:solidFill>
                <a:latin typeface="Arial"/>
              </a:rPr>
              <a:t>reat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1042920" y="1171080"/>
            <a:ext cx="7429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ffff00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Tahoma"/>
              </a:rPr>
              <a:t>Нуклеозидни и нуклеотидни инхибитори реверзне транскриптазе</a:t>
            </a:r>
            <a:r>
              <a:rPr b="0" lang="sr-Latn-CS" sz="1600" spc="-1" strike="noStrike">
                <a:solidFill>
                  <a:srgbClr val="ffff00"/>
                </a:solidFill>
                <a:latin typeface="Tahoma"/>
              </a:rPr>
              <a:t> (NIR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Ненуклеозидни инхибитори реверзне транскрипитазе</a:t>
            </a: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 (NNIR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Инхибитори протеазе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P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Инхибитори интегразе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(II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CR5 </a:t>
            </a: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антагони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Tahoma"/>
              <a:buAutoNum type="arabicPeriod"/>
              <a:tabLst>
                <a:tab algn="l" pos="219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Tahoma"/>
              </a:rPr>
              <a:t>Инхибитори фузиј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24000" y="3933720"/>
          <a:ext cx="8567640" cy="2757600"/>
        </p:xfrm>
        <a:graphic>
          <a:graphicData uri="http://schemas.openxmlformats.org/drawingml/2006/table">
            <a:tbl>
              <a:tblPr/>
              <a:tblGrid>
                <a:gridCol w="1512720"/>
                <a:gridCol w="1317600"/>
                <a:gridCol w="1433520"/>
                <a:gridCol w="1434960"/>
                <a:gridCol w="1433520"/>
                <a:gridCol w="143532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NI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CR5 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агони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хибитори фузиј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dovud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irap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akvi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ltegr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aviro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fuvirtid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ac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fanviren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sampre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vitegr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danos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raviri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lutegr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ivud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ito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трицитабин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азанав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enofo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opi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avud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runavi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8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2d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C4BB-C7B1-4BE5-823E-620FAA5BA0F1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71640" y="285840"/>
            <a:ext cx="7632720" cy="115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Franklin Gothic Book"/>
              </a:rPr>
              <a:t>САВРЕМЕНИ СТАВОВИ У ВЕЗИ АНТИРЕТРОВИРУСНЕ ТЕРАПИЈЕ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66320" y="1571400"/>
            <a:ext cx="75438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нтиретровирусну терапију треба укључити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код свих HIV позитивних пацијената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Arial"/>
              <a:buAutoNum type="arabicPeriod" startAt="2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ања код којих се започињање антиретровирусне терапије препоручује </a:t>
            </a:r>
            <a:r>
              <a:rPr b="0" lang="sr-RS" sz="1800" spc="-1" strike="noStrike">
                <a:solidFill>
                  <a:srgbClr val="ffffff"/>
                </a:solidFill>
                <a:latin typeface="Arial"/>
              </a:rPr>
              <a:t> без одлагањ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имптоматска HIV инфекција (CDC B  или 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ољење бубрега повезано са HIV –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урокогнитивно оштећење повезано са HIV –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Хочкинов лимф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лигнитети повезани са HIV –</a:t>
            </a:r>
            <a:r>
              <a:rPr b="0" lang="sr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Хронична хепатитис Б вирусна инфекциј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40000"/>
              </a:lnSpc>
              <a:spcBef>
                <a:spcPts val="1125"/>
              </a:spcBef>
              <a:buClr>
                <a:srgbClr val="ffff00"/>
              </a:buClr>
              <a:buSzPct val="80000"/>
              <a:buFont typeface="Arial"/>
              <a:buChar char="•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Два најважнија проблема антиретровирусне терапије 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spcBef>
                <a:spcPts val="1001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резистенциј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150000"/>
              </a:lnSpc>
              <a:spcBef>
                <a:spcPts val="1001"/>
              </a:spcBef>
              <a:buClr>
                <a:srgbClr val="ffff00"/>
              </a:buClr>
              <a:buSzPct val="90000"/>
              <a:buFont typeface="Wingdings" charset="2"/>
              <a:buChar char=""/>
              <a:tabLst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токсичнос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30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19"/>
          <p:cNvSpPr/>
          <p:nvPr/>
        </p:nvSpPr>
        <p:spPr>
          <a:xfrm>
            <a:off x="2627280" y="6400800"/>
            <a:ext cx="48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48A5-ACA8-468E-A610-5D25FB7DB944}" type="slidenum">
              <a:rPr b="0" i="1" lang="en-US" sz="12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FB8A-8F26-46E9-A42D-4B4C68D4ADCC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1" name="Picture 5" descr="UTAL%20previe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Footer Placeholder 3"/>
          <p:cNvSpPr/>
          <p:nvPr/>
        </p:nvSpPr>
        <p:spPr>
          <a:xfrm>
            <a:off x="2124000" y="1052640"/>
            <a:ext cx="66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00"/>
                </a:solidFill>
                <a:latin typeface="Tahoma"/>
              </a:rPr>
              <a:t>Хвала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на пажњи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468360" y="0"/>
            <a:ext cx="1080144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Распрострањеност </a:t>
            </a:r>
            <a:r>
              <a:rPr b="1" lang="sr-Latn-CS" sz="2800" spc="-1" strike="noStrike">
                <a:solidFill>
                  <a:srgbClr val="ffff00"/>
                </a:solidFill>
                <a:latin typeface="Comic Sans MS"/>
              </a:rPr>
              <a:t>HIV 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инфекције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5" name="Content Placeholder 8" descr="PREVALENVA.jpg"/>
          <p:cNvPicPr/>
          <p:nvPr/>
        </p:nvPicPr>
        <p:blipFill>
          <a:blip r:embed="rId1"/>
          <a:stretch/>
        </p:blipFill>
        <p:spPr>
          <a:xfrm>
            <a:off x="2411280" y="692280"/>
            <a:ext cx="4464360" cy="3151080"/>
          </a:xfrm>
          <a:prstGeom prst="rect">
            <a:avLst/>
          </a:prstGeom>
          <a:ln w="0">
            <a:noFill/>
          </a:ln>
        </p:spPr>
      </p:pic>
      <p:pic>
        <p:nvPicPr>
          <p:cNvPr id="326" name="Content Placeholder 9" descr="Number of people living with HIV_updated August2017_for website.png"/>
          <p:cNvPicPr/>
          <p:nvPr/>
        </p:nvPicPr>
        <p:blipFill>
          <a:blip r:embed="rId2"/>
          <a:stretch/>
        </p:blipFill>
        <p:spPr>
          <a:xfrm>
            <a:off x="2370240" y="4005360"/>
            <a:ext cx="4505400" cy="285264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482-8D18-4DEE-9EA1-CC0C38669876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856720" cy="76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  <a:ea typeface="Tahoma"/>
              </a:rPr>
              <a:t>Учесталост HIV инфекције у одређеним регионима света</a:t>
            </a:r>
            <a:endParaRPr b="0" lang="en-US" sz="1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9" name="Content Placeholder 12" descr="EPIDEMIOLOGIJA I SVET.png"/>
          <p:cNvPicPr/>
          <p:nvPr/>
        </p:nvPicPr>
        <p:blipFill>
          <a:blip r:embed="rId1"/>
          <a:stretch/>
        </p:blipFill>
        <p:spPr>
          <a:xfrm>
            <a:off x="1692360" y="692280"/>
            <a:ext cx="4819680" cy="2449440"/>
          </a:xfrm>
          <a:prstGeom prst="rect">
            <a:avLst/>
          </a:prstGeom>
          <a:ln w="0">
            <a:noFill/>
          </a:ln>
        </p:spPr>
      </p:pic>
      <p:pic>
        <p:nvPicPr>
          <p:cNvPr id="330" name="Content Placeholder 13" descr="EPIDEMIOLOGIJA.jpg"/>
          <p:cNvPicPr/>
          <p:nvPr/>
        </p:nvPicPr>
        <p:blipFill>
          <a:blip r:embed="rId2"/>
          <a:stretch/>
        </p:blipFill>
        <p:spPr>
          <a:xfrm>
            <a:off x="2050920" y="3641760"/>
            <a:ext cx="4284720" cy="321624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3"/>
          <p:cNvSpPr/>
          <p:nvPr/>
        </p:nvSpPr>
        <p:spPr>
          <a:xfrm>
            <a:off x="0" y="306864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9a98"/>
                </a:solidFill>
                <a:latin typeface="Comic Sans MS"/>
                <a:ea typeface="Tahoma"/>
              </a:rPr>
              <a:t>Учесталост</a:t>
            </a:r>
            <a:r>
              <a:rPr b="1" lang="en-US" sz="1800" spc="-1" strike="noStrike">
                <a:solidFill>
                  <a:srgbClr val="9b9a98"/>
                </a:solidFill>
                <a:latin typeface="Comic Sans MS"/>
              </a:rPr>
              <a:t> HIV инфекције према полу и животној доби у Европ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8BA3-8E65-43B4-ADB8-E087D6671472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2C4-7B7F-4823-962A-42D9D7F80E45}" type="slidenum">
              <a:rPr b="0" lang="en-US" sz="1000" spc="-1" strike="noStrike">
                <a:solidFill>
                  <a:srgbClr val="9b9a98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258920" y="40464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Comic Sans MS"/>
              </a:rPr>
              <a:t>Циљне ћелије на које делује ХИ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Text Box 11"/>
          <p:cNvSpPr/>
          <p:nvPr/>
        </p:nvSpPr>
        <p:spPr>
          <a:xfrm>
            <a:off x="1042920" y="1052640"/>
            <a:ext cx="720108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Након продора у организам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нфицира ћелије које на својој површини имају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молекул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молекул има функцију специфичног рецептора за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IV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Picture 12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4464360" cy="29876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13"/>
          <p:cNvSpPr/>
          <p:nvPr/>
        </p:nvSpPr>
        <p:spPr>
          <a:xfrm>
            <a:off x="1081800" y="5949360"/>
            <a:ext cx="64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T</a:t>
            </a:r>
            <a:r>
              <a:rPr b="0" lang="sr-Latn-CS" sz="1400" spc="-1" strike="noStrike">
                <a:solidFill>
                  <a:srgbClr val="ffff00"/>
                </a:solidFill>
                <a:latin typeface="Tahoma"/>
              </a:rPr>
              <a:t>h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лимфоцит је главна циљна ћелија на коју делује </a:t>
            </a:r>
            <a:r>
              <a:rPr b="0" lang="sr-Latn-CS" sz="1800" spc="-1" strike="noStrike">
                <a:solidFill>
                  <a:srgbClr val="ffff00"/>
                </a:solidFill>
                <a:latin typeface="Tahoma"/>
              </a:rPr>
              <a:t>HIV</a:t>
            </a: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4193640" y="32446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3:49Z</dcterms:created>
  <dc:creator>Dragan Adamovic</dc:creator>
  <dc:description/>
  <dc:language>en-US</dc:language>
  <cp:lastModifiedBy>Predrag Canovic</cp:lastModifiedBy>
  <dcterms:modified xsi:type="dcterms:W3CDTF">2024-01-31T19:26:48Z</dcterms:modified>
  <cp:revision>156</cp:revision>
  <dc:subject/>
  <dc:title>Slide 1</dc:title>
</cp:coreProperties>
</file>